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D6EA-8FA3-478A-BB30-BC1C3B256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456-6F8C-4245-9E8D-2F30882C9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900-E97D-4CE9-9F7A-B6BA12B2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A0A-592D-48B1-B531-947182FA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259-1717-4603-AB2D-E9C8964A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994-A224-49BE-A2E7-5DD9EA12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3E6-716D-4DFF-B064-FE603F2C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3F4-CB7E-43DE-99C6-43141DD2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4B3-77F5-4A21-9F29-96CE666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81A-C175-46A3-B27E-2C45C9CA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5F2-3CE6-463C-9552-31F412F8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813-3ADD-4337-89EC-C1658372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118-EA03-40E6-940D-F5DA4DD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C3D-B46D-4298-B55F-7D00DF06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2ea1"/>
            </a:gs>
            <a:gs pos="100000">
              <a:srgbClr val="1024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943E-E7EE-4B03-8ED2-6D4BDE5B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50sAqkvWbc" TargetMode="External"/><Relationship Id="rId3" Type="http://schemas.openxmlformats.org/officeDocument/2006/relationships/hyperlink" Target="http://www.youtube.com/watch?v=g50sAqkvWbc" TargetMode="External"/><Relationship Id="rId4" Type="http://schemas.openxmlformats.org/officeDocument/2006/relationships/hyperlink" Target="http://www.youtube.com/watch?v=g50sAqkvWb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17f9J1-r-k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29123" r="0" b="-4380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85800" y="685800"/>
            <a:ext cx="7696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c60a"/>
                </a:solidFill>
                <a:latin typeface="BlairMdITC TT-Medium"/>
              </a:rPr>
              <a:t>17.2 Curr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60a"/>
                </a:solidFill>
                <a:latin typeface="BlairMdITC TT-Medium"/>
              </a:rPr>
              <a:t>pages 593-5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578320" y="531828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’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 get an introdu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uctors vs. Ins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or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fl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lator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do not fl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conductors conduct under certai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state: ins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specific atoms allows electric charge to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in manufacturing of most electronic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sary due to change in temp &amp; compositio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 alter con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: Silicon and Germanium in computer boards; LED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749920" y="1905120"/>
            <a:ext cx="3378240" cy="105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nating vs. Direct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ng Current (AC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hat comes from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wer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 of curr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witch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alternates (60 times per secon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wer we receive from a wall socket in the U.S. is 120V, 60 cycl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ternat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nating vs. Direct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urrent (DC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e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uel cells, and mo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l produce 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+ and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min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battery are always respectively positive and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lways in the one direction (direct) between two termi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why have two types of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 Franklin AC vs. DC video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ason we have two types of current is because AC is best used for power g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 able to travel far distan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DC is commonly used in household applianc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se devices need DC, that means that the device has to convert AC to DC and sometim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lost in the form of HEAT (which is why your laptop may feel wa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90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mean if you have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ten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o some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ll roll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wnh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ve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vitation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ergy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vitation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tent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charges do the same thing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gative charge will move away from another nega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1148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1905120"/>
            <a:ext cx="43434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ical potential 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he ability to move an electric charge from one poin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95288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ical potent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like charg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the charg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ea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nd vice vers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43434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990720"/>
            <a:ext cx="8839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nti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gy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changes depending on the distance b/w the char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Repul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(2 like charges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get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2bfc5"/>
                </a:solidFill>
                <a:uFillTx/>
                <a:latin typeface="Arial"/>
              </a:rPr>
              <a:t>Attr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(2 opp. charges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</a:t>
            </a:r>
            <a:r>
              <a:rPr b="0" lang="en-US" sz="2400" spc="-1" strike="noStrike" u="sng">
                <a:solidFill>
                  <a:srgbClr val="72bfc5"/>
                </a:solidFill>
                <a:uFillTx/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get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ulsive &amp; attractive PE are opposite of on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544860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2286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practical to consid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enti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what is potential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electrical PE divided by its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difference =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Change in electrical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ccurs as a charge moves from one place to another in an electrica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l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38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is reason, potential difference is often called voltag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asically the force through which e- move along a condu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ltage &amp; Batt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840" y="609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 (potential difference) across two ends (terminals) of a battery ranges from 1.5 V (small battery) – 12 V (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 causes charges to mov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om side with higher PE to lower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teries are </a:t>
            </a:r>
            <a:r>
              <a:rPr b="1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evices that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produ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lectric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onverting chem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radiant energy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into electr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ly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lectrically conduc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wo; each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iv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dry or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volta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nd vice ve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r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3486240" cy="23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ic curr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ate at which charges (e-) move through a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is measure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pe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 ampere of current = 1 coulomb of charge moving past a point in 1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 of current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ppos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direction the e-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&amp; E- Flow 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-25560" y="1752480"/>
            <a:ext cx="91695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ff06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a7ff06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a7ff0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a7ff06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a7ff06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will flow toward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rge.  That’s which direction?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ight to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\\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\ is the opposite direc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 Left to ri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\\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\ does flow fr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itive to neg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/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do get pulled towards the posi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we define electric current to b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rection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bulbs use different amounts of power b/c different currents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n currents is due to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ff3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005"/>
                </a:solidFill>
                <a:uFillTx/>
                <a:latin typeface="Arial"/>
              </a:rPr>
              <a:t>Res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used by internal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fri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sl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ovement of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char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a condu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 = 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0" y="5410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5638680" y="4191120"/>
            <a:ext cx="35053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R= resistance (ohm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Ω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V= voltage (volts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I= current (ampere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943600" y="5410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T’S TRY SOME EXAMPLES ON YOUR NOTEGUI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4:26:12Z</dcterms:created>
  <dc:creator>Sarah Sewatsky User</dc:creator>
  <dc:description/>
  <dc:language>en-US</dc:language>
  <cp:lastModifiedBy>Jillian Boisse</cp:lastModifiedBy>
  <cp:lastPrinted>2013-11-05T19:04:26Z</cp:lastPrinted>
  <dcterms:modified xsi:type="dcterms:W3CDTF">2015-10-27T14:42:43Z</dcterms:modified>
  <cp:revision>45</cp:revision>
  <dc:subject/>
  <dc:title>PowerPoint Presentation</dc:title>
</cp:coreProperties>
</file>